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F5C-B722-4134-A949-E6631FCC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D53-5EC3-45D2-A915-FC3DC8AB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BE4-C9D0-43BE-8297-AC38FA85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997-1656-4243-A6FD-3C74B2FD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42B-C60C-4E1B-B023-C824AC60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36F-1BEB-4459-A2B9-45D656E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875-05F0-40B3-AD88-5E0FB34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422-1ABD-4E9A-A7FA-A1B0256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E39-8892-4286-8909-7A02C77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B74-B8D7-4BBE-A0D5-DBB5155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09D-D36F-42A0-92FD-29AC105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DEB-E1D7-4800-B7BF-798C89E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8279-23EF-4271-AFD5-649EA1D3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add web cont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e external WFPC websi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37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10280" y="0"/>
            <a:ext cx="198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get an overview while you add more photos to your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nd delete th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are d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440" y="4419720"/>
            <a:ext cx="6858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324120" y="2362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629400" y="2438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400800" y="0"/>
            <a:ext cx="2743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lso add relevant facts to the current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sired upload a file to support this fact. Proceed analogously to the Photo T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your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dd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599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flipV="1">
            <a:off x="4572000" y="472392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754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53080" y="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nd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a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dd more as seen 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ne adding facts click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324120" y="5715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95880" y="27432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274320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5886360" cy="60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886360" cy="60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172200" y="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done with this partnershi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ing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ring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to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09880" y="1295280"/>
            <a:ext cx="2438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3352680" y="2438280"/>
            <a:ext cx="609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4560" cy="539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0"/>
            <a:ext cx="2210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a pl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552600" y="3009960"/>
            <a:ext cx="7617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6284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0"/>
            <a:ext cx="2514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perty to insert content for an existing property on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19080"/>
            <a:ext cx="38088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34120" y="19051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343400" y="2819520"/>
            <a:ext cx="1295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5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0" y="0"/>
            <a:ext cx="2514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xisting partnership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down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is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05160" y="2209680"/>
            <a:ext cx="190476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90960" y="137160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352680" y="4038480"/>
            <a:ext cx="19814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76960" cy="6367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0"/>
            <a:ext cx="2514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description and rationale for this partnership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av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43400" y="1676520"/>
            <a:ext cx="236232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200400" y="5105520"/>
            <a:ext cx="1447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2971800" y="5029200"/>
            <a:ext cx="19810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76840" cy="667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0"/>
            <a:ext cx="259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should successfully modify the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make further changes to the description and the rationale but the changes have to be saved before you go to the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90760" y="838080"/>
            <a:ext cx="2438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638680" y="4191120"/>
            <a:ext cx="10670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4343400" y="5943600"/>
            <a:ext cx="19810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6759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0"/>
            <a:ext cx="236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a Photo Tour by uploading pictures and providing labels and ca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Browse to select the photo from you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81120" y="220968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352680" y="3733920"/>
            <a:ext cx="3657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657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81680" y="0"/>
            <a:ext cx="2362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e to where the picture resides on your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 by clicking on it once. The name will show up in the File nam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428640" y="160020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52880" y="457200"/>
            <a:ext cx="1905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477120" y="3352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91120" y="2438280"/>
            <a:ext cx="2666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3160" cy="6753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62920" y="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load the picture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181480" y="1143000"/>
            <a:ext cx="236232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4:44:12Z</dcterms:created>
  <dc:creator> Hendrik Knoche</dc:creator>
  <dc:description/>
  <dc:language>en-US</dc:language>
  <cp:lastModifiedBy> Hendrik Knoche</cp:lastModifiedBy>
  <dcterms:modified xsi:type="dcterms:W3CDTF">2003-05-21T00:28:30Z</dcterms:modified>
  <cp:revision>19</cp:revision>
  <dc:subject/>
  <dc:title>Slide 1</dc:title>
</cp:coreProperties>
</file>