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A0A-B18D-478C-A868-8E854D93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662-C3BF-42FD-9791-93FD891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8C8-9DFF-4F4C-BB47-D0612638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87C-1754-4FAC-BB34-25E2EFD8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2F5-87DD-4388-96B1-2298DB3A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DAB-7C2B-413F-B0DD-FCA558F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2A2-AB20-4078-9AEC-58DF832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013-927B-424B-A3CE-8EEE51FD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07B-24BC-4A7C-B8E9-5118FE51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451-51C6-4257-856C-B4A105C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355-FA8E-496E-8EAB-C8A20606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1AD-C637-4335-AC35-D421F43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F2E-62DA-45FD-80B1-DCDBD84B1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add web cont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e external WFPC webs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54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29400" y="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get an overview while you add more photos to your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re d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95880" y="2819520"/>
            <a:ext cx="9907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00800" y="0"/>
            <a:ext cx="2743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so add relevant facts to the current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ired upload a file to support this fact. Proceed analogously to the Photo T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your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dd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99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flipV="1">
            <a:off x="4572000" y="472392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75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53080" y="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nd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a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dd more as seen 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ne adding facts click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4120" y="5715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7432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553080" y="274320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5886360" cy="60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88636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72200" y="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with this partn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ing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ring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to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09880" y="1143000"/>
            <a:ext cx="24386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3352680" y="2438280"/>
            <a:ext cx="609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4560" cy="539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0"/>
            <a:ext cx="2210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a pl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552600" y="3009960"/>
            <a:ext cx="7617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6284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0"/>
            <a:ext cx="2514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perty to insert content for an existing property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19080"/>
            <a:ext cx="38088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4120" y="19051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343400" y="2819520"/>
            <a:ext cx="1295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5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0" y="0"/>
            <a:ext cx="2514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xisting partnership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down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is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05160" y="2209680"/>
            <a:ext cx="19047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90960" y="137160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352680" y="4038480"/>
            <a:ext cx="19814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6960" cy="6367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0"/>
            <a:ext cx="2514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description and rationale for this partnership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v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43400" y="1676520"/>
            <a:ext cx="236232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200400" y="5105520"/>
            <a:ext cx="1447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2971800" y="5029200"/>
            <a:ext cx="19810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76840" cy="667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0"/>
            <a:ext cx="25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should successfully modify the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ke further changes to the description and the rationale but the changes have to be saved before you go to the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0760" y="838080"/>
            <a:ext cx="2438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638680" y="4191120"/>
            <a:ext cx="10670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4343400" y="5943600"/>
            <a:ext cx="19810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6759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a Photo Tour by uploading pictures and providing labels and ca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Browse to select the photo from you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81120" y="220968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352680" y="3733920"/>
            <a:ext cx="3657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57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0"/>
            <a:ext cx="2362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 to where the picture resides on your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 by clicking on it once. The name will show up in the File nam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428640" y="160020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2880" y="45720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77120" y="3352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91120" y="2438280"/>
            <a:ext cx="2666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3160" cy="6753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2920" y="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load the pictur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81480" y="1143000"/>
            <a:ext cx="23623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4:44:12Z</dcterms:created>
  <dc:creator> Hendrik Knoche</dc:creator>
  <dc:description/>
  <dc:language>en-US</dc:language>
  <cp:lastModifiedBy> Hendrik Knoche</cp:lastModifiedBy>
  <dcterms:modified xsi:type="dcterms:W3CDTF">2003-05-20T17:58:06Z</dcterms:modified>
  <cp:revision>16</cp:revision>
  <dc:subject/>
  <dc:title>Slide 1</dc:title>
</cp:coreProperties>
</file>